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4280" y="371520"/>
            <a:ext cx="1667160" cy="317880"/>
            <a:chOff x="314280" y="371520"/>
            <a:chExt cx="1667160" cy="317880"/>
          </a:xfrm>
        </p:grpSpPr>
        <p:sp>
          <p:nvSpPr>
            <p:cNvPr id="1" name=""/>
            <p:cNvSpPr/>
            <p:nvPr/>
          </p:nvSpPr>
          <p:spPr>
            <a:xfrm>
              <a:off x="314280" y="371520"/>
              <a:ext cx="675000" cy="317880"/>
            </a:xfrm>
            <a:custGeom>
              <a:avLst/>
              <a:gdLst/>
              <a:ahLst/>
              <a:rect l="0" t="0" r="r" b="b"/>
              <a:pathLst>
                <a:path w="1875" h="883">
                  <a:moveTo>
                    <a:pt x="0" y="0"/>
                  </a:moveTo>
                  <a:lnTo>
                    <a:pt x="1875" y="0"/>
                  </a:lnTo>
                  <a:lnTo>
                    <a:pt x="1654" y="883"/>
                  </a:lnTo>
                  <a:lnTo>
                    <a:pt x="0" y="8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58680" y="371520"/>
              <a:ext cx="397080" cy="317880"/>
            </a:xfrm>
            <a:custGeom>
              <a:avLst/>
              <a:gdLst/>
              <a:ahLst/>
              <a:rect l="0" t="0" r="r" b="b"/>
              <a:pathLst>
                <a:path w="1103" h="883">
                  <a:moveTo>
                    <a:pt x="220" y="0"/>
                  </a:moveTo>
                  <a:lnTo>
                    <a:pt x="0" y="883"/>
                  </a:lnTo>
                  <a:lnTo>
                    <a:pt x="882" y="883"/>
                  </a:lnTo>
                  <a:lnTo>
                    <a:pt x="1103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20840" y="371520"/>
              <a:ext cx="317880" cy="317880"/>
            </a:xfrm>
            <a:custGeom>
              <a:avLst/>
              <a:gdLst/>
              <a:ahLst/>
              <a:rect l="0" t="0" r="r" b="b"/>
              <a:pathLst>
                <a:path w="883" h="883">
                  <a:moveTo>
                    <a:pt x="220" y="0"/>
                  </a:moveTo>
                  <a:lnTo>
                    <a:pt x="0" y="883"/>
                  </a:lnTo>
                  <a:lnTo>
                    <a:pt x="663" y="883"/>
                  </a:lnTo>
                  <a:lnTo>
                    <a:pt x="883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98760" y="371520"/>
              <a:ext cx="238320" cy="317880"/>
            </a:xfrm>
            <a:custGeom>
              <a:avLst/>
              <a:gdLst/>
              <a:ahLst/>
              <a:rect l="0" t="0" r="r" b="b"/>
              <a:pathLst>
                <a:path w="662" h="883">
                  <a:moveTo>
                    <a:pt x="220" y="0"/>
                  </a:moveTo>
                  <a:lnTo>
                    <a:pt x="0" y="883"/>
                  </a:lnTo>
                  <a:lnTo>
                    <a:pt x="441" y="883"/>
                  </a:lnTo>
                  <a:lnTo>
                    <a:pt x="662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782720" y="371520"/>
              <a:ext cx="159120" cy="317880"/>
            </a:xfrm>
            <a:custGeom>
              <a:avLst/>
              <a:gdLst/>
              <a:ahLst/>
              <a:rect l="0" t="0" r="r" b="b"/>
              <a:pathLst>
                <a:path w="442" h="883">
                  <a:moveTo>
                    <a:pt x="221" y="0"/>
                  </a:moveTo>
                  <a:lnTo>
                    <a:pt x="221" y="0"/>
                  </a:lnTo>
                  <a:lnTo>
                    <a:pt x="0" y="883"/>
                  </a:lnTo>
                  <a:lnTo>
                    <a:pt x="221" y="883"/>
                  </a:lnTo>
                  <a:lnTo>
                    <a:pt x="442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76320" y="371520"/>
              <a:ext cx="105120" cy="317880"/>
            </a:xfrm>
            <a:custGeom>
              <a:avLst/>
              <a:gdLst/>
              <a:ahLst/>
              <a:rect l="0" t="0" r="r" b="b"/>
              <a:pathLst>
                <a:path w="292" h="883">
                  <a:moveTo>
                    <a:pt x="222" y="0"/>
                  </a:moveTo>
                  <a:lnTo>
                    <a:pt x="0" y="883"/>
                  </a:lnTo>
                  <a:lnTo>
                    <a:pt x="69" y="883"/>
                  </a:lnTo>
                  <a:lnTo>
                    <a:pt x="292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2008080" y="6186600"/>
            <a:ext cx="7437960" cy="309960"/>
            <a:chOff x="2008080" y="6186600"/>
            <a:chExt cx="7437960" cy="309960"/>
          </a:xfrm>
        </p:grpSpPr>
        <p:sp>
          <p:nvSpPr>
            <p:cNvPr id="8" name=""/>
            <p:cNvSpPr/>
            <p:nvPr/>
          </p:nvSpPr>
          <p:spPr>
            <a:xfrm>
              <a:off x="2008080" y="6419880"/>
              <a:ext cx="7437960" cy="76680"/>
            </a:xfrm>
            <a:custGeom>
              <a:avLst/>
              <a:gdLst/>
              <a:ahLst/>
              <a:rect l="0" t="0" r="r" b="b"/>
              <a:pathLst>
                <a:path w="20661" h="213">
                  <a:moveTo>
                    <a:pt x="0" y="213"/>
                  </a:moveTo>
                  <a:lnTo>
                    <a:pt x="20661" y="213"/>
                  </a:lnTo>
                  <a:lnTo>
                    <a:pt x="20661" y="0"/>
                  </a:lnTo>
                  <a:lnTo>
                    <a:pt x="52" y="0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36880" y="6300720"/>
              <a:ext cx="7409160" cy="76680"/>
            </a:xfrm>
            <a:custGeom>
              <a:avLst/>
              <a:gdLst/>
              <a:ahLst/>
              <a:rect l="0" t="0" r="r" b="b"/>
              <a:pathLst>
                <a:path w="20581" h="213">
                  <a:moveTo>
                    <a:pt x="0" y="213"/>
                  </a:moveTo>
                  <a:lnTo>
                    <a:pt x="20581" y="213"/>
                  </a:lnTo>
                  <a:lnTo>
                    <a:pt x="20581" y="0"/>
                  </a:lnTo>
                  <a:lnTo>
                    <a:pt x="52" y="0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5320" y="6186600"/>
              <a:ext cx="7380720" cy="76680"/>
            </a:xfrm>
            <a:custGeom>
              <a:avLst/>
              <a:gdLst/>
              <a:ahLst/>
              <a:rect l="0" t="0" r="r" b="b"/>
              <a:pathLst>
                <a:path w="20502" h="213">
                  <a:moveTo>
                    <a:pt x="0" y="213"/>
                  </a:moveTo>
                  <a:lnTo>
                    <a:pt x="20502" y="213"/>
                  </a:lnTo>
                  <a:lnTo>
                    <a:pt x="20502" y="0"/>
                  </a:lnTo>
                  <a:lnTo>
                    <a:pt x="52" y="0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 txBox="1"/>
          <p:nvPr/>
        </p:nvSpPr>
        <p:spPr>
          <a:xfrm>
            <a:off x="1974960" y="6523200"/>
            <a:ext cx="6111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fffff"/>
              </a:buClr>
              <a:buSzPct val="120000"/>
              <a:buFont typeface="Book Antiqua"/>
              <a:buChar char=""/>
            </a:pPr>
            <a:r>
              <a:rPr b="1" lang="en-US" sz="1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niversity of Ljubljana, Jozef Stefan Institute, SLOV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 txBox="1"/>
          <p:nvPr/>
        </p:nvSpPr>
        <p:spPr>
          <a:xfrm>
            <a:off x="8908920" y="6485040"/>
            <a:ext cx="3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J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 txBox="1"/>
          <p:nvPr/>
        </p:nvSpPr>
        <p:spPr>
          <a:xfrm>
            <a:off x="6622920" y="6599160"/>
            <a:ext cx="1154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nicode 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2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4.wmf"/><Relationship Id="rId13" Type="http://schemas.openxmlformats.org/officeDocument/2006/relationships/image" Target="../media/image8.wmf"/><Relationship Id="rId14" Type="http://schemas.openxmlformats.org/officeDocument/2006/relationships/image" Target="../media/image6.wmf"/><Relationship Id="rId15" Type="http://schemas.openxmlformats.org/officeDocument/2006/relationships/image" Target="../media/image7.wmf"/><Relationship Id="rId16" Type="http://schemas.openxmlformats.org/officeDocument/2006/relationships/image" Target="../media/image2.wmf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00080" y="2286000"/>
            <a:ext cx="777240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Multilingual API for Internationalization of the Network Serv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816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SL Dutch"/>
                <a:ea typeface="SL Dutch"/>
              </a:rPr>
              <a:t>Borka Jerman-Bla`i~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SL Dutch"/>
                <a:ea typeface="SL Dutch"/>
              </a:rPr>
              <a:t>Slove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What  users have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57280" y="1000080"/>
            <a:ext cx="71629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WW - very wide use bu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of local languages based on “local” character s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irst attempts to provide “multi-lingual” client and ser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iscussion about use of Unicode - Internet draft -  HTML-I18N is changing the attitu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21240" y="1379520"/>
            <a:ext cx="163440" cy="54936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74640" y="369720"/>
            <a:ext cx="780732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at are  users looking for?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19160" y="2357280"/>
            <a:ext cx="627120" cy="42876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98440" y="3441600"/>
            <a:ext cx="327240" cy="13500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212840" y="4138560"/>
            <a:ext cx="285840" cy="5400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484280" y="4446720"/>
            <a:ext cx="217440" cy="32220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757520" y="4473720"/>
            <a:ext cx="828360" cy="146052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681280" y="4741920"/>
            <a:ext cx="449280" cy="80316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6029280" y="4768920"/>
            <a:ext cx="312840" cy="60156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7118280" y="4554360"/>
            <a:ext cx="420840" cy="66996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70440" y="1620720"/>
            <a:ext cx="14400" cy="58896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764400" y="1687680"/>
            <a:ext cx="108000" cy="40140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240680" y="1781280"/>
            <a:ext cx="584280" cy="52236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321680" y="2478240"/>
            <a:ext cx="993600" cy="42840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8110440" y="3201840"/>
            <a:ext cx="722520" cy="26676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8205840" y="4084560"/>
            <a:ext cx="571320" cy="32220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920000" y="4367160"/>
            <a:ext cx="681120" cy="108432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8120" y="1824120"/>
            <a:ext cx="7018560" cy="3156480"/>
          </a:xfrm>
          <a:custGeom>
            <a:avLst/>
            <a:gdLst/>
            <a:ahLst/>
            <a:rect l="0" t="0" r="r" b="b"/>
            <a:pathLst>
              <a:path w="19496" h="8768">
                <a:moveTo>
                  <a:pt x="19496" y="6008"/>
                </a:moveTo>
                <a:lnTo>
                  <a:pt x="19465" y="5627"/>
                </a:lnTo>
                <a:lnTo>
                  <a:pt x="19294" y="5051"/>
                </a:lnTo>
                <a:lnTo>
                  <a:pt x="18990" y="4579"/>
                </a:lnTo>
                <a:lnTo>
                  <a:pt x="18838" y="4422"/>
                </a:lnTo>
                <a:lnTo>
                  <a:pt x="18663" y="4288"/>
                </a:lnTo>
                <a:lnTo>
                  <a:pt x="18279" y="4098"/>
                </a:lnTo>
                <a:lnTo>
                  <a:pt x="17733" y="4012"/>
                </a:lnTo>
                <a:lnTo>
                  <a:pt x="17616" y="4022"/>
                </a:lnTo>
                <a:lnTo>
                  <a:pt x="17007" y="4174"/>
                </a:lnTo>
                <a:lnTo>
                  <a:pt x="17119" y="4136"/>
                </a:lnTo>
                <a:lnTo>
                  <a:pt x="17661" y="4017"/>
                </a:lnTo>
                <a:lnTo>
                  <a:pt x="17652" y="3831"/>
                </a:lnTo>
                <a:lnTo>
                  <a:pt x="17558" y="3693"/>
                </a:lnTo>
                <a:lnTo>
                  <a:pt x="17316" y="3445"/>
                </a:lnTo>
                <a:lnTo>
                  <a:pt x="16887" y="3207"/>
                </a:lnTo>
                <a:lnTo>
                  <a:pt x="16511" y="3145"/>
                </a:lnTo>
                <a:lnTo>
                  <a:pt x="16242" y="3178"/>
                </a:lnTo>
                <a:lnTo>
                  <a:pt x="16506" y="3140"/>
                </a:lnTo>
                <a:lnTo>
                  <a:pt x="16815" y="3188"/>
                </a:lnTo>
                <a:lnTo>
                  <a:pt x="16873" y="3088"/>
                </a:lnTo>
                <a:lnTo>
                  <a:pt x="16945" y="2759"/>
                </a:lnTo>
                <a:lnTo>
                  <a:pt x="16931" y="2115"/>
                </a:lnTo>
                <a:lnTo>
                  <a:pt x="16703" y="1434"/>
                </a:lnTo>
                <a:lnTo>
                  <a:pt x="16600" y="1262"/>
                </a:lnTo>
                <a:lnTo>
                  <a:pt x="16488" y="1105"/>
                </a:lnTo>
                <a:lnTo>
                  <a:pt x="16363" y="957"/>
                </a:lnTo>
                <a:lnTo>
                  <a:pt x="16224" y="829"/>
                </a:lnTo>
                <a:lnTo>
                  <a:pt x="16081" y="719"/>
                </a:lnTo>
                <a:lnTo>
                  <a:pt x="15580" y="495"/>
                </a:lnTo>
                <a:lnTo>
                  <a:pt x="15047" y="414"/>
                </a:lnTo>
                <a:lnTo>
                  <a:pt x="14644" y="457"/>
                </a:lnTo>
                <a:lnTo>
                  <a:pt x="14103" y="676"/>
                </a:lnTo>
                <a:lnTo>
                  <a:pt x="13942" y="786"/>
                </a:lnTo>
                <a:lnTo>
                  <a:pt x="13790" y="914"/>
                </a:lnTo>
                <a:lnTo>
                  <a:pt x="13655" y="1062"/>
                </a:lnTo>
                <a:lnTo>
                  <a:pt x="13530" y="1224"/>
                </a:lnTo>
                <a:lnTo>
                  <a:pt x="13423" y="1405"/>
                </a:lnTo>
                <a:lnTo>
                  <a:pt x="13190" y="2024"/>
                </a:lnTo>
                <a:lnTo>
                  <a:pt x="13364" y="1515"/>
                </a:lnTo>
                <a:lnTo>
                  <a:pt x="13360" y="1362"/>
                </a:lnTo>
                <a:lnTo>
                  <a:pt x="13105" y="1148"/>
                </a:lnTo>
                <a:lnTo>
                  <a:pt x="12792" y="1000"/>
                </a:lnTo>
                <a:lnTo>
                  <a:pt x="12254" y="919"/>
                </a:lnTo>
                <a:lnTo>
                  <a:pt x="11794" y="1010"/>
                </a:lnTo>
                <a:lnTo>
                  <a:pt x="11359" y="1257"/>
                </a:lnTo>
                <a:lnTo>
                  <a:pt x="11203" y="1410"/>
                </a:lnTo>
                <a:lnTo>
                  <a:pt x="11060" y="1586"/>
                </a:lnTo>
                <a:lnTo>
                  <a:pt x="10876" y="1915"/>
                </a:lnTo>
                <a:lnTo>
                  <a:pt x="11225" y="1395"/>
                </a:lnTo>
                <a:lnTo>
                  <a:pt x="11167" y="1214"/>
                </a:lnTo>
                <a:lnTo>
                  <a:pt x="10992" y="919"/>
                </a:lnTo>
                <a:lnTo>
                  <a:pt x="10572" y="462"/>
                </a:lnTo>
                <a:lnTo>
                  <a:pt x="10066" y="185"/>
                </a:lnTo>
                <a:lnTo>
                  <a:pt x="9514" y="80"/>
                </a:lnTo>
                <a:lnTo>
                  <a:pt x="9376" y="80"/>
                </a:lnTo>
                <a:lnTo>
                  <a:pt x="8834" y="185"/>
                </a:lnTo>
                <a:lnTo>
                  <a:pt x="8333" y="452"/>
                </a:lnTo>
                <a:lnTo>
                  <a:pt x="7912" y="881"/>
                </a:lnTo>
                <a:lnTo>
                  <a:pt x="7617" y="1462"/>
                </a:lnTo>
                <a:lnTo>
                  <a:pt x="7666" y="1329"/>
                </a:lnTo>
                <a:lnTo>
                  <a:pt x="7966" y="809"/>
                </a:lnTo>
                <a:lnTo>
                  <a:pt x="7930" y="600"/>
                </a:lnTo>
                <a:lnTo>
                  <a:pt x="7688" y="385"/>
                </a:lnTo>
                <a:lnTo>
                  <a:pt x="7125" y="100"/>
                </a:lnTo>
                <a:lnTo>
                  <a:pt x="6502" y="0"/>
                </a:lnTo>
                <a:lnTo>
                  <a:pt x="5719" y="138"/>
                </a:lnTo>
                <a:lnTo>
                  <a:pt x="5151" y="457"/>
                </a:lnTo>
                <a:lnTo>
                  <a:pt x="4681" y="967"/>
                </a:lnTo>
                <a:lnTo>
                  <a:pt x="4372" y="1667"/>
                </a:lnTo>
                <a:lnTo>
                  <a:pt x="4269" y="2554"/>
                </a:lnTo>
                <a:lnTo>
                  <a:pt x="4269" y="2440"/>
                </a:lnTo>
                <a:lnTo>
                  <a:pt x="4332" y="1839"/>
                </a:lnTo>
                <a:lnTo>
                  <a:pt x="4104" y="1834"/>
                </a:lnTo>
                <a:lnTo>
                  <a:pt x="3790" y="1958"/>
                </a:lnTo>
                <a:lnTo>
                  <a:pt x="3486" y="2148"/>
                </a:lnTo>
                <a:lnTo>
                  <a:pt x="3343" y="2268"/>
                </a:lnTo>
                <a:lnTo>
                  <a:pt x="3213" y="2402"/>
                </a:lnTo>
                <a:lnTo>
                  <a:pt x="3092" y="2549"/>
                </a:lnTo>
                <a:lnTo>
                  <a:pt x="2980" y="2711"/>
                </a:lnTo>
                <a:lnTo>
                  <a:pt x="2886" y="2883"/>
                </a:lnTo>
                <a:lnTo>
                  <a:pt x="2806" y="3069"/>
                </a:lnTo>
                <a:lnTo>
                  <a:pt x="2721" y="3369"/>
                </a:lnTo>
                <a:lnTo>
                  <a:pt x="2694" y="4022"/>
                </a:lnTo>
                <a:lnTo>
                  <a:pt x="2698" y="3493"/>
                </a:lnTo>
                <a:lnTo>
                  <a:pt x="2564" y="3459"/>
                </a:lnTo>
                <a:lnTo>
                  <a:pt x="2372" y="3550"/>
                </a:lnTo>
                <a:lnTo>
                  <a:pt x="1973" y="3855"/>
                </a:lnTo>
                <a:lnTo>
                  <a:pt x="1727" y="4193"/>
                </a:lnTo>
                <a:lnTo>
                  <a:pt x="1557" y="4665"/>
                </a:lnTo>
                <a:lnTo>
                  <a:pt x="1723" y="4207"/>
                </a:lnTo>
                <a:lnTo>
                  <a:pt x="1481" y="4212"/>
                </a:lnTo>
                <a:lnTo>
                  <a:pt x="1315" y="4250"/>
                </a:lnTo>
                <a:lnTo>
                  <a:pt x="845" y="4474"/>
                </a:lnTo>
                <a:lnTo>
                  <a:pt x="443" y="4827"/>
                </a:lnTo>
                <a:lnTo>
                  <a:pt x="331" y="4970"/>
                </a:lnTo>
                <a:lnTo>
                  <a:pt x="147" y="5279"/>
                </a:lnTo>
                <a:lnTo>
                  <a:pt x="0" y="5804"/>
                </a:lnTo>
                <a:lnTo>
                  <a:pt x="40" y="6528"/>
                </a:lnTo>
                <a:lnTo>
                  <a:pt x="228" y="7034"/>
                </a:lnTo>
                <a:lnTo>
                  <a:pt x="537" y="7463"/>
                </a:lnTo>
                <a:lnTo>
                  <a:pt x="944" y="7782"/>
                </a:lnTo>
                <a:lnTo>
                  <a:pt x="1445" y="7963"/>
                </a:lnTo>
                <a:lnTo>
                  <a:pt x="1960" y="7968"/>
                </a:lnTo>
                <a:lnTo>
                  <a:pt x="2412" y="7839"/>
                </a:lnTo>
                <a:lnTo>
                  <a:pt x="2913" y="7505"/>
                </a:lnTo>
                <a:lnTo>
                  <a:pt x="3276" y="7039"/>
                </a:lnTo>
                <a:lnTo>
                  <a:pt x="3432" y="6629"/>
                </a:lnTo>
                <a:lnTo>
                  <a:pt x="3387" y="6781"/>
                </a:lnTo>
                <a:lnTo>
                  <a:pt x="3150" y="7224"/>
                </a:lnTo>
                <a:lnTo>
                  <a:pt x="3119" y="7448"/>
                </a:lnTo>
                <a:lnTo>
                  <a:pt x="3370" y="7934"/>
                </a:lnTo>
                <a:lnTo>
                  <a:pt x="3750" y="8315"/>
                </a:lnTo>
                <a:lnTo>
                  <a:pt x="4215" y="8563"/>
                </a:lnTo>
                <a:lnTo>
                  <a:pt x="4735" y="8668"/>
                </a:lnTo>
                <a:lnTo>
                  <a:pt x="5258" y="8601"/>
                </a:lnTo>
                <a:lnTo>
                  <a:pt x="5751" y="8339"/>
                </a:lnTo>
                <a:lnTo>
                  <a:pt x="6068" y="8006"/>
                </a:lnTo>
                <a:lnTo>
                  <a:pt x="6395" y="7363"/>
                </a:lnTo>
                <a:lnTo>
                  <a:pt x="6095" y="7977"/>
                </a:lnTo>
                <a:lnTo>
                  <a:pt x="6234" y="8144"/>
                </a:lnTo>
                <a:lnTo>
                  <a:pt x="6350" y="8249"/>
                </a:lnTo>
                <a:lnTo>
                  <a:pt x="6784" y="8492"/>
                </a:lnTo>
                <a:lnTo>
                  <a:pt x="7227" y="8587"/>
                </a:lnTo>
                <a:lnTo>
                  <a:pt x="7809" y="8506"/>
                </a:lnTo>
                <a:lnTo>
                  <a:pt x="8297" y="8230"/>
                </a:lnTo>
                <a:lnTo>
                  <a:pt x="8758" y="7725"/>
                </a:lnTo>
                <a:lnTo>
                  <a:pt x="8660" y="7863"/>
                </a:lnTo>
                <a:lnTo>
                  <a:pt x="8167" y="8320"/>
                </a:lnTo>
                <a:lnTo>
                  <a:pt x="8351" y="8511"/>
                </a:lnTo>
                <a:lnTo>
                  <a:pt x="8512" y="8601"/>
                </a:lnTo>
                <a:lnTo>
                  <a:pt x="8691" y="8678"/>
                </a:lnTo>
                <a:lnTo>
                  <a:pt x="9295" y="8768"/>
                </a:lnTo>
                <a:lnTo>
                  <a:pt x="9829" y="8668"/>
                </a:lnTo>
                <a:lnTo>
                  <a:pt x="10334" y="8373"/>
                </a:lnTo>
                <a:lnTo>
                  <a:pt x="10684" y="7972"/>
                </a:lnTo>
                <a:lnTo>
                  <a:pt x="11006" y="7248"/>
                </a:lnTo>
                <a:lnTo>
                  <a:pt x="10724" y="7915"/>
                </a:lnTo>
                <a:lnTo>
                  <a:pt x="10787" y="8034"/>
                </a:lnTo>
                <a:lnTo>
                  <a:pt x="10876" y="8130"/>
                </a:lnTo>
                <a:lnTo>
                  <a:pt x="11328" y="8454"/>
                </a:lnTo>
                <a:lnTo>
                  <a:pt x="12219" y="8739"/>
                </a:lnTo>
                <a:lnTo>
                  <a:pt x="13226" y="8697"/>
                </a:lnTo>
                <a:lnTo>
                  <a:pt x="14054" y="8330"/>
                </a:lnTo>
                <a:lnTo>
                  <a:pt x="14210" y="8215"/>
                </a:lnTo>
                <a:lnTo>
                  <a:pt x="14358" y="8082"/>
                </a:lnTo>
                <a:lnTo>
                  <a:pt x="14501" y="7934"/>
                </a:lnTo>
                <a:lnTo>
                  <a:pt x="14635" y="7772"/>
                </a:lnTo>
                <a:lnTo>
                  <a:pt x="14765" y="7591"/>
                </a:lnTo>
                <a:lnTo>
                  <a:pt x="14886" y="7396"/>
                </a:lnTo>
                <a:lnTo>
                  <a:pt x="14998" y="7181"/>
                </a:lnTo>
                <a:lnTo>
                  <a:pt x="15101" y="6943"/>
                </a:lnTo>
                <a:lnTo>
                  <a:pt x="15195" y="6691"/>
                </a:lnTo>
                <a:lnTo>
                  <a:pt x="15114" y="6929"/>
                </a:lnTo>
                <a:lnTo>
                  <a:pt x="14756" y="7606"/>
                </a:lnTo>
                <a:lnTo>
                  <a:pt x="14747" y="7715"/>
                </a:lnTo>
                <a:lnTo>
                  <a:pt x="14944" y="7915"/>
                </a:lnTo>
                <a:lnTo>
                  <a:pt x="15249" y="8091"/>
                </a:lnTo>
                <a:lnTo>
                  <a:pt x="15826" y="8225"/>
                </a:lnTo>
                <a:lnTo>
                  <a:pt x="16354" y="8153"/>
                </a:lnTo>
                <a:lnTo>
                  <a:pt x="16761" y="7929"/>
                </a:lnTo>
                <a:lnTo>
                  <a:pt x="17124" y="7520"/>
                </a:lnTo>
                <a:lnTo>
                  <a:pt x="17406" y="6900"/>
                </a:lnTo>
                <a:lnTo>
                  <a:pt x="17361" y="7034"/>
                </a:lnTo>
                <a:lnTo>
                  <a:pt x="17057" y="7610"/>
                </a:lnTo>
                <a:lnTo>
                  <a:pt x="17133" y="7739"/>
                </a:lnTo>
                <a:lnTo>
                  <a:pt x="17383" y="7810"/>
                </a:lnTo>
                <a:lnTo>
                  <a:pt x="17965" y="7829"/>
                </a:lnTo>
                <a:lnTo>
                  <a:pt x="18489" y="7653"/>
                </a:lnTo>
                <a:lnTo>
                  <a:pt x="18923" y="7324"/>
                </a:lnTo>
                <a:lnTo>
                  <a:pt x="19066" y="7162"/>
                </a:lnTo>
                <a:lnTo>
                  <a:pt x="19192" y="6991"/>
                </a:lnTo>
                <a:lnTo>
                  <a:pt x="19299" y="6805"/>
                </a:lnTo>
                <a:lnTo>
                  <a:pt x="19415" y="6509"/>
                </a:lnTo>
                <a:lnTo>
                  <a:pt x="19496" y="6008"/>
                </a:lnTo>
                <a:close/>
              </a:path>
            </a:pathLst>
          </a:custGeom>
          <a:gradFill rotWithShape="0">
            <a:gsLst>
              <a:gs pos="0">
                <a:srgbClr val="438e00"/>
              </a:gs>
              <a:gs pos="100000">
                <a:srgbClr val="357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147840" y="920880"/>
            <a:ext cx="755640" cy="579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355760" y="1906560"/>
            <a:ext cx="754200" cy="577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189160" y="1116000"/>
            <a:ext cx="754200" cy="577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784600" y="1622520"/>
            <a:ext cx="414360" cy="379440"/>
          </a:xfrm>
          <a:prstGeom prst="line">
            <a:avLst/>
          </a:prstGeom>
          <a:ln w="381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454800" y="1162080"/>
            <a:ext cx="755640" cy="579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261040" y="1135080"/>
            <a:ext cx="755640" cy="579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461360" y="1303200"/>
            <a:ext cx="826920" cy="593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975440" y="2076480"/>
            <a:ext cx="754200" cy="577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8497800" y="4138560"/>
            <a:ext cx="755640" cy="579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8515440" y="2760840"/>
            <a:ext cx="725400" cy="574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5867280" y="5170320"/>
            <a:ext cx="722160" cy="573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1"/>
          <a:stretch/>
        </p:blipFill>
        <p:spPr>
          <a:xfrm>
            <a:off x="7042320" y="4873680"/>
            <a:ext cx="809640" cy="684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2"/>
          <a:stretch/>
        </p:blipFill>
        <p:spPr>
          <a:xfrm>
            <a:off x="8325000" y="5019840"/>
            <a:ext cx="826920" cy="593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3"/>
          <a:stretch/>
        </p:blipFill>
        <p:spPr>
          <a:xfrm>
            <a:off x="2265480" y="5180040"/>
            <a:ext cx="722160" cy="57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4"/>
          <a:stretch/>
        </p:blipFill>
        <p:spPr>
          <a:xfrm>
            <a:off x="1284120" y="5594400"/>
            <a:ext cx="725400" cy="57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5"/>
          <a:stretch/>
        </p:blipFill>
        <p:spPr>
          <a:xfrm>
            <a:off x="527040" y="2917800"/>
            <a:ext cx="809640" cy="684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555480" y="3809880"/>
            <a:ext cx="754200" cy="577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7"/>
          <a:stretch/>
        </p:blipFill>
        <p:spPr>
          <a:xfrm>
            <a:off x="826920" y="4600440"/>
            <a:ext cx="754200" cy="577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473280" y="6232680"/>
            <a:ext cx="2152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01880" y="3029040"/>
            <a:ext cx="606276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SL Dutch"/>
                <a:ea typeface="SL Dutch"/>
              </a:rPr>
              <a:t>use of the services in a language and script of user choice, both for input and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090880" y="271440"/>
            <a:ext cx="7162920" cy="27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Language is the most crucial part of the cultural diversity on the network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066760" y="1838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09760" y="2930400"/>
            <a:ext cx="5105520" cy="385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831960" y="3595680"/>
            <a:ext cx="3917880" cy="28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ff"/>
                </a:solidFill>
                <a:latin typeface="Book Antiqua"/>
                <a:ea typeface="Book Antiqua"/>
              </a:rPr>
              <a:t>Transparent 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ff"/>
                </a:solidFill>
                <a:latin typeface="Book Antiqua"/>
                <a:ea typeface="Book Antiqua"/>
              </a:rPr>
              <a:t>Processing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842240" y="3641760"/>
            <a:ext cx="1546200" cy="18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Book Antiqua"/>
                <a:ea typeface="Book Antiqua"/>
              </a:rPr>
              <a:t>Can w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Book Antiqua"/>
                <a:ea typeface="Book Antiqua"/>
              </a:rPr>
              <a:t>th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Book Antiqua"/>
                <a:ea typeface="Book Antiqua"/>
              </a:rPr>
              <a:t>ab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Book Antiqua"/>
                <a:ea typeface="Book Antiqua"/>
              </a:rPr>
              <a:t>solu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489560" y="4395960"/>
            <a:ext cx="2590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jaz govorim slovensk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kaj pa t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SvobodaFWF"/>
                <a:ea typeface="SvobodaFWF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vobodaFWF"/>
                <a:ea typeface="SvobodaFWF"/>
              </a:rPr>
              <a:t>ß ãîâîðþ ïî ðóññê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090880" y="271440"/>
            <a:ext cx="716292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What are the tasks of TLP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09560" y="1533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ociate with the client - the native local if available otherwise use de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 basic man-machine communication between the user and the application in the local, language or native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 switching to other lo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each service allow the user to optionally specify his preferred lo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 a connection to a character and language translation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ere the tasks should be perform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9200" y="1676520"/>
            <a:ext cx="71629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 the client or server side -depending on the service e.g... library search - different types for transcription in different enviro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cial TLP service on the 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but common levels of support can be specified and implemen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24560" y="2362320"/>
            <a:ext cx="2057400" cy="91440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48600" y="4800600"/>
            <a:ext cx="2057400" cy="91440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385040" y="2436840"/>
            <a:ext cx="159552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Book Antiqua"/>
                <a:ea typeface="Book Antiqua"/>
              </a:rPr>
              <a:t>Or.search.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Book Antiqua"/>
                <a:ea typeface="Book Antiqua"/>
              </a:rPr>
              <a:t>Or.transcri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ff0000"/>
                </a:solidFill>
                <a:latin typeface="Book Antiqua"/>
                <a:ea typeface="Book Antiqua"/>
              </a:rPr>
              <a:t>TSJAIKOVSKI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232760" y="4776840"/>
            <a:ext cx="197496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ff"/>
                </a:solidFill>
                <a:latin typeface="Book Antiqua"/>
                <a:ea typeface="Book Antiqua"/>
              </a:rPr>
              <a:t>Targ.searc.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ff"/>
                </a:solidFill>
                <a:latin typeface="Book Antiqua"/>
                <a:ea typeface="Book Antiqua"/>
              </a:rPr>
              <a:t>Targ.transc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ff"/>
                </a:solidFill>
                <a:latin typeface="Book Antiqua"/>
                <a:ea typeface="Book Antiqua"/>
              </a:rPr>
              <a:t>TCHAIKOVS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010360" y="3276720"/>
            <a:ext cx="609840" cy="686160"/>
          </a:xfrm>
          <a:custGeom>
            <a:avLst/>
            <a:gdLst/>
            <a:ahLst/>
            <a:rect l="0" t="0" r="r" b="b"/>
            <a:pathLst>
              <a:path w="1694" h="1906">
                <a:moveTo>
                  <a:pt x="563" y="0"/>
                </a:moveTo>
                <a:lnTo>
                  <a:pt x="1128" y="0"/>
                </a:lnTo>
                <a:lnTo>
                  <a:pt x="1128" y="1334"/>
                </a:lnTo>
                <a:lnTo>
                  <a:pt x="1694" y="1334"/>
                </a:lnTo>
                <a:lnTo>
                  <a:pt x="846" y="1906"/>
                </a:lnTo>
                <a:lnTo>
                  <a:pt x="0" y="1334"/>
                </a:lnTo>
                <a:lnTo>
                  <a:pt x="563" y="1334"/>
                </a:lnTo>
                <a:lnTo>
                  <a:pt x="563" y="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340760" y="3819600"/>
            <a:ext cx="2041560" cy="676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010360" y="4114800"/>
            <a:ext cx="686160" cy="686160"/>
          </a:xfrm>
          <a:custGeom>
            <a:avLst/>
            <a:gdLst/>
            <a:ahLst/>
            <a:rect l="0" t="0" r="r" b="b"/>
            <a:pathLst>
              <a:path w="1906" h="1906">
                <a:moveTo>
                  <a:pt x="634" y="0"/>
                </a:moveTo>
                <a:lnTo>
                  <a:pt x="1269" y="0"/>
                </a:lnTo>
                <a:lnTo>
                  <a:pt x="1269" y="1334"/>
                </a:lnTo>
                <a:lnTo>
                  <a:pt x="1906" y="1334"/>
                </a:lnTo>
                <a:lnTo>
                  <a:pt x="952" y="1906"/>
                </a:lnTo>
                <a:lnTo>
                  <a:pt x="0" y="1334"/>
                </a:lnTo>
                <a:lnTo>
                  <a:pt x="634" y="1334"/>
                </a:lnTo>
                <a:lnTo>
                  <a:pt x="634" y="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994520" y="3908520"/>
            <a:ext cx="865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36520" y="4175280"/>
            <a:ext cx="38926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øtersæster   ( a sour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ff"/>
                </a:solidFill>
                <a:latin typeface="Book Antiqua"/>
                <a:ea typeface="Book Antiqua"/>
              </a:rPr>
              <a:t>                     </a:t>
            </a:r>
            <a:r>
              <a:rPr b="1" lang="en-US" sz="2400" spc="-1" strike="noStrike">
                <a:solidFill>
                  <a:srgbClr val="ff00ff"/>
                </a:solidFill>
                <a:latin typeface="Book Antiqua"/>
                <a:ea typeface="Book Antiqua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  <a:ea typeface="Book Antiqua"/>
              </a:rPr>
              <a:t>A: Soetersaet  </a:t>
            </a:r>
            <a:r>
              <a:rPr b="1" lang="en-US" sz="2400" spc="-1" strike="noStrike">
                <a:solidFill>
                  <a:srgbClr val="d49fff"/>
                </a:solidFill>
                <a:latin typeface="Book Antiqua"/>
                <a:ea typeface="Book Antiqua"/>
              </a:rPr>
              <a:t>B: Sötersä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3800" y="4648320"/>
            <a:ext cx="381240" cy="381240"/>
          </a:xfrm>
          <a:custGeom>
            <a:avLst/>
            <a:gdLst/>
            <a:ahLst/>
            <a:rect l="0" t="0" r="r" b="b"/>
            <a:pathLst>
              <a:path w="1059" h="1059">
                <a:moveTo>
                  <a:pt x="352" y="0"/>
                </a:moveTo>
                <a:lnTo>
                  <a:pt x="705" y="0"/>
                </a:lnTo>
                <a:lnTo>
                  <a:pt x="705" y="741"/>
                </a:lnTo>
                <a:lnTo>
                  <a:pt x="1059" y="741"/>
                </a:lnTo>
                <a:lnTo>
                  <a:pt x="530" y="1059"/>
                </a:lnTo>
                <a:lnTo>
                  <a:pt x="0" y="741"/>
                </a:lnTo>
                <a:lnTo>
                  <a:pt x="352" y="741"/>
                </a:lnTo>
                <a:lnTo>
                  <a:pt x="352" y="0"/>
                </a:lnTo>
                <a:close/>
              </a:path>
            </a:pathLst>
          </a:cu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43280" y="5257800"/>
            <a:ext cx="381240" cy="457560"/>
          </a:xfrm>
          <a:custGeom>
            <a:avLst/>
            <a:gdLst/>
            <a:ahLst/>
            <a:rect l="0" t="0" r="r" b="b"/>
            <a:pathLst>
              <a:path w="1059" h="1271">
                <a:moveTo>
                  <a:pt x="352" y="0"/>
                </a:moveTo>
                <a:lnTo>
                  <a:pt x="705" y="0"/>
                </a:lnTo>
                <a:lnTo>
                  <a:pt x="705" y="890"/>
                </a:lnTo>
                <a:lnTo>
                  <a:pt x="1059" y="890"/>
                </a:lnTo>
                <a:lnTo>
                  <a:pt x="530" y="1271"/>
                </a:lnTo>
                <a:lnTo>
                  <a:pt x="0" y="890"/>
                </a:lnTo>
                <a:lnTo>
                  <a:pt x="352" y="890"/>
                </a:lnTo>
                <a:lnTo>
                  <a:pt x="352" y="0"/>
                </a:lnTo>
                <a:close/>
              </a:path>
            </a:pathLst>
          </a:cu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71680" y="5334120"/>
            <a:ext cx="381240" cy="457560"/>
          </a:xfrm>
          <a:custGeom>
            <a:avLst/>
            <a:gdLst/>
            <a:ahLst/>
            <a:rect l="0" t="0" r="r" b="b"/>
            <a:pathLst>
              <a:path w="1059" h="1271">
                <a:moveTo>
                  <a:pt x="352" y="0"/>
                </a:moveTo>
                <a:lnTo>
                  <a:pt x="705" y="0"/>
                </a:lnTo>
                <a:lnTo>
                  <a:pt x="705" y="890"/>
                </a:lnTo>
                <a:lnTo>
                  <a:pt x="1059" y="890"/>
                </a:lnTo>
                <a:lnTo>
                  <a:pt x="530" y="1271"/>
                </a:lnTo>
                <a:lnTo>
                  <a:pt x="0" y="890"/>
                </a:lnTo>
                <a:lnTo>
                  <a:pt x="352" y="890"/>
                </a:lnTo>
                <a:lnTo>
                  <a:pt x="352" y="0"/>
                </a:lnTo>
                <a:close/>
              </a:path>
            </a:pathLst>
          </a:cu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evels of Transparent Language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066760" y="1838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03560" y="1752480"/>
            <a:ext cx="5045040" cy="4863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392960" y="4943520"/>
            <a:ext cx="1979640" cy="1362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133800" y="3352680"/>
            <a:ext cx="4953240" cy="1676880"/>
          </a:xfrm>
          <a:custGeom>
            <a:avLst/>
            <a:gdLst/>
            <a:ahLst/>
            <a:rect l="0" t="0" r="r" b="b"/>
            <a:pathLst>
              <a:path fill="none" w="13759" h="4658">
                <a:moveTo>
                  <a:pt x="13759" y="4658"/>
                </a:moveTo>
                <a:lnTo>
                  <a:pt x="13759" y="4658"/>
                </a:lnTo>
                <a:lnTo>
                  <a:pt x="13759" y="4658"/>
                </a:lnTo>
                <a:cubicBezTo>
                  <a:pt x="13759" y="3840"/>
                  <a:pt x="13123" y="3037"/>
                  <a:pt x="11916" y="2329"/>
                </a:cubicBezTo>
                <a:cubicBezTo>
                  <a:pt x="10708" y="1621"/>
                  <a:pt x="8971" y="1033"/>
                  <a:pt x="6879" y="624"/>
                </a:cubicBezTo>
                <a:cubicBezTo>
                  <a:pt x="4788" y="215"/>
                  <a:pt x="2415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3360" y="1935000"/>
            <a:ext cx="1009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Level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3360" y="2544840"/>
            <a:ext cx="1009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Level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3360" y="3230640"/>
            <a:ext cx="1009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Level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3360" y="3916440"/>
            <a:ext cx="1009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Level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19200" y="1152360"/>
            <a:ext cx="693432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racter set conversion only with an obvious fall-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0, and language sensitive transliteration with rudimentary Posix level of cultural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0, L1 and basic Translation Memory, for, e.g.Directory, keywords, geographic place names and application messages for national language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0 through L2, plus optional parallel routing of text body through a third party Machine Translation eng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00880" y="1219320"/>
            <a:ext cx="1981440" cy="762480"/>
          </a:xfrm>
          <a:custGeom>
            <a:avLst/>
            <a:gdLst/>
            <a:ahLst/>
            <a:rect l="0" t="0" r="r" b="b"/>
            <a:pathLst>
              <a:path w="5504" h="2118">
                <a:moveTo>
                  <a:pt x="0" y="211"/>
                </a:moveTo>
                <a:lnTo>
                  <a:pt x="0" y="1695"/>
                </a:lnTo>
                <a:lnTo>
                  <a:pt x="550" y="1907"/>
                </a:lnTo>
                <a:lnTo>
                  <a:pt x="1100" y="1907"/>
                </a:lnTo>
                <a:lnTo>
                  <a:pt x="550" y="2118"/>
                </a:lnTo>
                <a:lnTo>
                  <a:pt x="1650" y="1907"/>
                </a:lnTo>
                <a:lnTo>
                  <a:pt x="4954" y="1907"/>
                </a:lnTo>
                <a:lnTo>
                  <a:pt x="5504" y="1695"/>
                </a:lnTo>
                <a:lnTo>
                  <a:pt x="5504" y="211"/>
                </a:lnTo>
                <a:lnTo>
                  <a:pt x="4954" y="0"/>
                </a:lnTo>
                <a:lnTo>
                  <a:pt x="550" y="0"/>
                </a:lnTo>
                <a:lnTo>
                  <a:pt x="0" y="211"/>
                </a:lnTo>
                <a:close/>
              </a:path>
            </a:pathLst>
          </a:cu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00880" y="2057400"/>
            <a:ext cx="1981440" cy="762480"/>
          </a:xfrm>
          <a:custGeom>
            <a:avLst/>
            <a:gdLst/>
            <a:ahLst/>
            <a:rect l="0" t="0" r="r" b="b"/>
            <a:pathLst>
              <a:path w="5504" h="2118">
                <a:moveTo>
                  <a:pt x="0" y="211"/>
                </a:moveTo>
                <a:lnTo>
                  <a:pt x="0" y="1695"/>
                </a:lnTo>
                <a:lnTo>
                  <a:pt x="550" y="1907"/>
                </a:lnTo>
                <a:lnTo>
                  <a:pt x="1100" y="1907"/>
                </a:lnTo>
                <a:lnTo>
                  <a:pt x="550" y="2118"/>
                </a:lnTo>
                <a:lnTo>
                  <a:pt x="1650" y="1907"/>
                </a:lnTo>
                <a:lnTo>
                  <a:pt x="4954" y="1907"/>
                </a:lnTo>
                <a:lnTo>
                  <a:pt x="5504" y="1695"/>
                </a:lnTo>
                <a:lnTo>
                  <a:pt x="5504" y="211"/>
                </a:lnTo>
                <a:lnTo>
                  <a:pt x="4954" y="0"/>
                </a:lnTo>
                <a:lnTo>
                  <a:pt x="550" y="0"/>
                </a:lnTo>
                <a:lnTo>
                  <a:pt x="0" y="211"/>
                </a:lnTo>
                <a:close/>
              </a:path>
            </a:pathLst>
          </a:cu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77200" y="3124080"/>
            <a:ext cx="1981440" cy="762480"/>
          </a:xfrm>
          <a:custGeom>
            <a:avLst/>
            <a:gdLst/>
            <a:ahLst/>
            <a:rect l="0" t="0" r="r" b="b"/>
            <a:pathLst>
              <a:path w="5504" h="2118">
                <a:moveTo>
                  <a:pt x="0" y="211"/>
                </a:moveTo>
                <a:lnTo>
                  <a:pt x="0" y="1695"/>
                </a:lnTo>
                <a:lnTo>
                  <a:pt x="550" y="1907"/>
                </a:lnTo>
                <a:lnTo>
                  <a:pt x="1100" y="1907"/>
                </a:lnTo>
                <a:lnTo>
                  <a:pt x="550" y="2118"/>
                </a:lnTo>
                <a:lnTo>
                  <a:pt x="1650" y="1907"/>
                </a:lnTo>
                <a:lnTo>
                  <a:pt x="4954" y="1907"/>
                </a:lnTo>
                <a:lnTo>
                  <a:pt x="5504" y="1695"/>
                </a:lnTo>
                <a:lnTo>
                  <a:pt x="5504" y="211"/>
                </a:lnTo>
                <a:lnTo>
                  <a:pt x="4954" y="0"/>
                </a:lnTo>
                <a:lnTo>
                  <a:pt x="550" y="0"/>
                </a:lnTo>
                <a:lnTo>
                  <a:pt x="0" y="211"/>
                </a:lnTo>
                <a:close/>
              </a:path>
            </a:pathLst>
          </a:cu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77200" y="4343400"/>
            <a:ext cx="1981440" cy="762480"/>
          </a:xfrm>
          <a:custGeom>
            <a:avLst/>
            <a:gdLst/>
            <a:ahLst/>
            <a:rect l="0" t="0" r="r" b="b"/>
            <a:pathLst>
              <a:path w="5504" h="2118">
                <a:moveTo>
                  <a:pt x="0" y="211"/>
                </a:moveTo>
                <a:lnTo>
                  <a:pt x="0" y="1695"/>
                </a:lnTo>
                <a:lnTo>
                  <a:pt x="550" y="1907"/>
                </a:lnTo>
                <a:lnTo>
                  <a:pt x="1100" y="1907"/>
                </a:lnTo>
                <a:lnTo>
                  <a:pt x="550" y="2118"/>
                </a:lnTo>
                <a:lnTo>
                  <a:pt x="1650" y="1907"/>
                </a:lnTo>
                <a:lnTo>
                  <a:pt x="4954" y="1907"/>
                </a:lnTo>
                <a:lnTo>
                  <a:pt x="5504" y="1695"/>
                </a:lnTo>
                <a:lnTo>
                  <a:pt x="5504" y="211"/>
                </a:lnTo>
                <a:lnTo>
                  <a:pt x="4954" y="0"/>
                </a:lnTo>
                <a:lnTo>
                  <a:pt x="550" y="0"/>
                </a:lnTo>
                <a:lnTo>
                  <a:pt x="0" y="211"/>
                </a:lnTo>
                <a:close/>
              </a:path>
            </a:pathLst>
          </a:cu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13640" y="1355760"/>
            <a:ext cx="1174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Leve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3640" y="2117880"/>
            <a:ext cx="1174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Level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613640" y="3260880"/>
            <a:ext cx="1174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Level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89960" y="4403880"/>
            <a:ext cx="1174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Level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The C3 TOO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47800" y="13050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sk Force of the TERENA WG I18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ERENA - Trans European Research and Academic Network Associ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embers: Olle Jarnefors, Peter Svaneberg, Keld Simonsen and Borka Jerman-Bla</a:t>
            </a:r>
            <a:r>
              <a:rPr b="1" lang="en-US" sz="3600" spc="-1" strike="noStrike">
                <a:solidFill>
                  <a:srgbClr val="ffffff"/>
                </a:solidFill>
                <a:latin typeface="SL Dutch"/>
                <a:ea typeface="SL Dutch"/>
              </a:rPr>
              <a:t>`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SL Dutch"/>
                <a:ea typeface="SL Dutch"/>
              </a:rPr>
              <a:t>~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439040" y="371520"/>
            <a:ext cx="15908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The C3 too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066760" y="1838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3360" y="1461960"/>
            <a:ext cx="880740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C3  information:  &lt;URL:htt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//www.nada.kth.se/I18N/C3/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e.mail addresses: &lt;c3-questions@nada.kth.se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&lt;c3-info-request@nada.kth.se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&lt;c3-request@nada.kth.se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&lt;c3@nada.kth.se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anonymous FTP: &lt;URL:ft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//ftp.nada.kth.se/pub/i18n/c3/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29560" y="314280"/>
            <a:ext cx="15908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090880" y="271440"/>
            <a:ext cx="7162920" cy="13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Basic features of the system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09560" y="22860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670040" y="2224080"/>
            <a:ext cx="7048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MPLEMENTS LEVELS  L0 and L1 of </a:t>
            </a:r>
            <a:r>
              <a:rPr b="1" lang="en-US" sz="2800" spc="-1" strike="noStrike">
                <a:solidFill>
                  <a:srgbClr val="00ff00"/>
                </a:solidFill>
                <a:latin typeface="Book Antiqua"/>
                <a:ea typeface="Book Antiqua"/>
              </a:rPr>
              <a:t>T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46360" y="3184560"/>
            <a:ext cx="643248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OVIDES SOFT MIGRATION BETWE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CURRENT CHARACTER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DES AND UNICODE (ISO 10 646/BM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362400" y="4952880"/>
            <a:ext cx="3613320" cy="1143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746360" y="4754520"/>
            <a:ext cx="1743120" cy="13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  <a:ea typeface="Book Antiqua"/>
              </a:rPr>
              <a:t>Other kn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  <a:ea typeface="Book Antiqua"/>
              </a:rPr>
              <a:t>character 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  <a:ea typeface="Book Antiqua"/>
              </a:rPr>
              <a:t>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981840" y="463860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ctors in the global information socie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43080" y="24480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formation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per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formation produc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ystem produc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090880" y="271440"/>
            <a:ext cx="7162920" cy="13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Basic features of the syste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23760" y="1981080"/>
            <a:ext cx="8305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rtable - written in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neral - allows conversion in any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sy to use  - (defaul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exible - allows user/administrator/appl.developer adjus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aptable - allows introduction of new cultural dependent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sy to customize - the conversion tables are in human readable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090880" y="271440"/>
            <a:ext cx="7162920" cy="13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Basic features of the syste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80960" y="1914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handle 7-bit, 8-bit and 16-bit coded character sets as well as ISO 6937/T.6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-purpose, can be used in different network applications or as independent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be incorporated in client/serv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al - it is based on Unicode (implementation level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ple to extend: new ta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090880" y="271440"/>
            <a:ext cx="7162920" cy="13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Basic features of the syste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609560" y="1838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leable: to fully define N(N+1) possible paths between N different coded character sets, only N+1 conversion tables are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conversion is defined through Unicode as commo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onversion is done directly between the target and the source, not involving Unicode as an intermediate st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The mode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33800" y="3429000"/>
            <a:ext cx="762120" cy="923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23760" y="914400"/>
            <a:ext cx="3581280" cy="762120"/>
          </a:xfrm>
          <a:prstGeom prst="roundRect">
            <a:avLst/>
          </a:prstGeom>
          <a:solidFill>
            <a:srgbClr val="cecece"/>
          </a:solidFill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0" y="5562720"/>
            <a:ext cx="3581280" cy="762120"/>
          </a:xfrm>
          <a:prstGeom prst="roundRect">
            <a:avLst/>
          </a:prstGeom>
          <a:solidFill>
            <a:srgbClr val="cecece"/>
          </a:solidFill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36520" y="1042920"/>
            <a:ext cx="313056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eam of bytes, Sub-st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of different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27640" y="5691240"/>
            <a:ext cx="352908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ub-strings of Different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eam of  by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86080" y="1828800"/>
            <a:ext cx="2819520" cy="68580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75160" y="210996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put da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86080" y="4572000"/>
            <a:ext cx="2819520" cy="68580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575160" y="4776840"/>
            <a:ext cx="1447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Out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2760" y="2590920"/>
            <a:ext cx="1752480" cy="83808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52760" y="3657600"/>
            <a:ext cx="1752480" cy="83808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413240" y="2795760"/>
            <a:ext cx="83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Par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200480" y="3962520"/>
            <a:ext cx="2362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Output gen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00680" y="5257800"/>
            <a:ext cx="152640" cy="305280"/>
          </a:xfrm>
          <a:custGeom>
            <a:avLst/>
            <a:gdLst/>
            <a:ahLst/>
            <a:rect l="0" t="0" r="r" b="b"/>
            <a:pathLst>
              <a:path w="424" h="848">
                <a:moveTo>
                  <a:pt x="140" y="0"/>
                </a:moveTo>
                <a:lnTo>
                  <a:pt x="282" y="0"/>
                </a:lnTo>
                <a:lnTo>
                  <a:pt x="282" y="593"/>
                </a:lnTo>
                <a:lnTo>
                  <a:pt x="424" y="593"/>
                </a:lnTo>
                <a:lnTo>
                  <a:pt x="211" y="848"/>
                </a:lnTo>
                <a:lnTo>
                  <a:pt x="0" y="593"/>
                </a:lnTo>
                <a:lnTo>
                  <a:pt x="140" y="593"/>
                </a:lnTo>
                <a:lnTo>
                  <a:pt x="140" y="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cecece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00680" y="4419720"/>
            <a:ext cx="152640" cy="305280"/>
          </a:xfrm>
          <a:custGeom>
            <a:avLst/>
            <a:gdLst/>
            <a:ahLst/>
            <a:rect l="0" t="0" r="r" b="b"/>
            <a:pathLst>
              <a:path w="424" h="848">
                <a:moveTo>
                  <a:pt x="140" y="0"/>
                </a:moveTo>
                <a:lnTo>
                  <a:pt x="282" y="0"/>
                </a:lnTo>
                <a:lnTo>
                  <a:pt x="282" y="593"/>
                </a:lnTo>
                <a:lnTo>
                  <a:pt x="424" y="593"/>
                </a:lnTo>
                <a:lnTo>
                  <a:pt x="211" y="848"/>
                </a:lnTo>
                <a:lnTo>
                  <a:pt x="0" y="593"/>
                </a:lnTo>
                <a:lnTo>
                  <a:pt x="140" y="593"/>
                </a:lnTo>
                <a:lnTo>
                  <a:pt x="140" y="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cecece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00680" y="3352680"/>
            <a:ext cx="152640" cy="305280"/>
          </a:xfrm>
          <a:custGeom>
            <a:avLst/>
            <a:gdLst/>
            <a:ahLst/>
            <a:rect l="0" t="0" r="r" b="b"/>
            <a:pathLst>
              <a:path w="424" h="848">
                <a:moveTo>
                  <a:pt x="140" y="0"/>
                </a:moveTo>
                <a:lnTo>
                  <a:pt x="282" y="0"/>
                </a:lnTo>
                <a:lnTo>
                  <a:pt x="282" y="593"/>
                </a:lnTo>
                <a:lnTo>
                  <a:pt x="424" y="593"/>
                </a:lnTo>
                <a:lnTo>
                  <a:pt x="211" y="848"/>
                </a:lnTo>
                <a:lnTo>
                  <a:pt x="0" y="593"/>
                </a:lnTo>
                <a:lnTo>
                  <a:pt x="140" y="593"/>
                </a:lnTo>
                <a:lnTo>
                  <a:pt x="140" y="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cecece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00680" y="2438280"/>
            <a:ext cx="152640" cy="305280"/>
          </a:xfrm>
          <a:custGeom>
            <a:avLst/>
            <a:gdLst/>
            <a:ahLst/>
            <a:rect l="0" t="0" r="r" b="b"/>
            <a:pathLst>
              <a:path w="424" h="848">
                <a:moveTo>
                  <a:pt x="140" y="0"/>
                </a:moveTo>
                <a:lnTo>
                  <a:pt x="282" y="0"/>
                </a:lnTo>
                <a:lnTo>
                  <a:pt x="282" y="593"/>
                </a:lnTo>
                <a:lnTo>
                  <a:pt x="424" y="593"/>
                </a:lnTo>
                <a:lnTo>
                  <a:pt x="211" y="848"/>
                </a:lnTo>
                <a:lnTo>
                  <a:pt x="0" y="593"/>
                </a:lnTo>
                <a:lnTo>
                  <a:pt x="140" y="593"/>
                </a:lnTo>
                <a:lnTo>
                  <a:pt x="140" y="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cecece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91000" y="1600200"/>
            <a:ext cx="152640" cy="305280"/>
          </a:xfrm>
          <a:custGeom>
            <a:avLst/>
            <a:gdLst/>
            <a:ahLst/>
            <a:rect l="0" t="0" r="r" b="b"/>
            <a:pathLst>
              <a:path w="424" h="848">
                <a:moveTo>
                  <a:pt x="140" y="0"/>
                </a:moveTo>
                <a:lnTo>
                  <a:pt x="282" y="0"/>
                </a:lnTo>
                <a:lnTo>
                  <a:pt x="282" y="593"/>
                </a:lnTo>
                <a:lnTo>
                  <a:pt x="424" y="593"/>
                </a:lnTo>
                <a:lnTo>
                  <a:pt x="211" y="848"/>
                </a:lnTo>
                <a:lnTo>
                  <a:pt x="0" y="593"/>
                </a:lnTo>
                <a:lnTo>
                  <a:pt x="140" y="593"/>
                </a:lnTo>
                <a:lnTo>
                  <a:pt x="140" y="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cecece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1160" y="2590920"/>
            <a:ext cx="1066680" cy="190512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117960" y="2697120"/>
            <a:ext cx="749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ff"/>
                </a:solidFill>
                <a:latin typeface="Book Antiqua"/>
                <a:ea typeface="Book Antiqua"/>
              </a:rPr>
              <a:t>Co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ff"/>
                </a:solidFill>
                <a:latin typeface="Book Antiqua"/>
                <a:ea typeface="Book Antiqua"/>
              </a:rPr>
              <a:t>v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95560" y="289548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848" y="282"/>
                </a:moveTo>
                <a:lnTo>
                  <a:pt x="848" y="564"/>
                </a:lnTo>
                <a:lnTo>
                  <a:pt x="255" y="564"/>
                </a:lnTo>
                <a:lnTo>
                  <a:pt x="255" y="848"/>
                </a:lnTo>
                <a:lnTo>
                  <a:pt x="0" y="424"/>
                </a:lnTo>
                <a:lnTo>
                  <a:pt x="255" y="0"/>
                </a:lnTo>
                <a:lnTo>
                  <a:pt x="255" y="282"/>
                </a:lnTo>
                <a:lnTo>
                  <a:pt x="848" y="282"/>
                </a:lnTo>
                <a:close/>
              </a:path>
            </a:pathLst>
          </a:cu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95560" y="4114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848" y="282"/>
                </a:moveTo>
                <a:lnTo>
                  <a:pt x="848" y="564"/>
                </a:lnTo>
                <a:lnTo>
                  <a:pt x="255" y="564"/>
                </a:lnTo>
                <a:lnTo>
                  <a:pt x="255" y="848"/>
                </a:lnTo>
                <a:lnTo>
                  <a:pt x="0" y="424"/>
                </a:lnTo>
                <a:lnTo>
                  <a:pt x="255" y="0"/>
                </a:lnTo>
                <a:lnTo>
                  <a:pt x="255" y="282"/>
                </a:lnTo>
                <a:lnTo>
                  <a:pt x="848" y="282"/>
                </a:lnTo>
                <a:close/>
              </a:path>
            </a:pathLst>
          </a:cu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00480" y="289548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0" y="282"/>
                </a:moveTo>
                <a:lnTo>
                  <a:pt x="0" y="564"/>
                </a:lnTo>
                <a:lnTo>
                  <a:pt x="593" y="564"/>
                </a:lnTo>
                <a:lnTo>
                  <a:pt x="593" y="848"/>
                </a:lnTo>
                <a:lnTo>
                  <a:pt x="848" y="424"/>
                </a:lnTo>
                <a:lnTo>
                  <a:pt x="593" y="0"/>
                </a:lnTo>
                <a:lnTo>
                  <a:pt x="593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00480" y="4114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0" y="282"/>
                </a:moveTo>
                <a:lnTo>
                  <a:pt x="0" y="564"/>
                </a:lnTo>
                <a:lnTo>
                  <a:pt x="593" y="564"/>
                </a:lnTo>
                <a:lnTo>
                  <a:pt x="593" y="848"/>
                </a:lnTo>
                <a:lnTo>
                  <a:pt x="848" y="424"/>
                </a:lnTo>
                <a:lnTo>
                  <a:pt x="593" y="0"/>
                </a:lnTo>
                <a:lnTo>
                  <a:pt x="593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171960" y="3524400"/>
            <a:ext cx="676440" cy="676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791400" y="2819520"/>
            <a:ext cx="1676520" cy="1676520"/>
          </a:xfrm>
          <a:prstGeom prst="roundRect">
            <a:avLst/>
          </a:prstGeom>
          <a:solidFill>
            <a:srgbClr val="a2c1f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1520" y="2895480"/>
            <a:ext cx="192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Basic param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pecific par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  <a:ea typeface="Book Antiqua"/>
              </a:rPr>
              <a:t>User.dr.par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05600" y="3733920"/>
            <a:ext cx="686160" cy="381240"/>
          </a:xfrm>
          <a:custGeom>
            <a:avLst/>
            <a:gdLst/>
            <a:ahLst/>
            <a:rect l="0" t="0" r="r" b="b"/>
            <a:pathLst>
              <a:path w="1906" h="1059">
                <a:moveTo>
                  <a:pt x="1906" y="352"/>
                </a:moveTo>
                <a:lnTo>
                  <a:pt x="1906" y="705"/>
                </a:lnTo>
                <a:lnTo>
                  <a:pt x="571" y="705"/>
                </a:lnTo>
                <a:lnTo>
                  <a:pt x="571" y="1059"/>
                </a:lnTo>
                <a:lnTo>
                  <a:pt x="0" y="530"/>
                </a:lnTo>
                <a:lnTo>
                  <a:pt x="571" y="0"/>
                </a:lnTo>
                <a:lnTo>
                  <a:pt x="571" y="352"/>
                </a:lnTo>
                <a:lnTo>
                  <a:pt x="1906" y="352"/>
                </a:lnTo>
                <a:close/>
              </a:path>
            </a:pathLst>
          </a:custGeom>
          <a:solidFill>
            <a:srgbClr val="919191"/>
          </a:solidFill>
          <a:ln w="25560">
            <a:solidFill>
              <a:srgbClr val="cecece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529320" y="1066680"/>
            <a:ext cx="2243160" cy="1712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380960" y="2057400"/>
            <a:ext cx="1295280" cy="12952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80960" y="3581280"/>
            <a:ext cx="1295280" cy="12952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23960" y="396252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848" y="211"/>
                </a:moveTo>
                <a:lnTo>
                  <a:pt x="848" y="423"/>
                </a:lnTo>
                <a:lnTo>
                  <a:pt x="254" y="423"/>
                </a:lnTo>
                <a:lnTo>
                  <a:pt x="254" y="636"/>
                </a:lnTo>
                <a:lnTo>
                  <a:pt x="0" y="317"/>
                </a:lnTo>
                <a:lnTo>
                  <a:pt x="254" y="0"/>
                </a:lnTo>
                <a:lnTo>
                  <a:pt x="254" y="211"/>
                </a:lnTo>
                <a:lnTo>
                  <a:pt x="848" y="211"/>
                </a:lnTo>
                <a:close/>
              </a:path>
            </a:pathLst>
          </a:cu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23960" y="289548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848" y="211"/>
                </a:moveTo>
                <a:lnTo>
                  <a:pt x="848" y="423"/>
                </a:lnTo>
                <a:lnTo>
                  <a:pt x="254" y="423"/>
                </a:lnTo>
                <a:lnTo>
                  <a:pt x="254" y="636"/>
                </a:lnTo>
                <a:lnTo>
                  <a:pt x="0" y="317"/>
                </a:lnTo>
                <a:lnTo>
                  <a:pt x="254" y="0"/>
                </a:lnTo>
                <a:lnTo>
                  <a:pt x="254" y="211"/>
                </a:lnTo>
                <a:lnTo>
                  <a:pt x="848" y="211"/>
                </a:lnTo>
                <a:close/>
              </a:path>
            </a:pathLst>
          </a:cu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28880" y="396252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0" y="211"/>
                </a:moveTo>
                <a:lnTo>
                  <a:pt x="0" y="423"/>
                </a:lnTo>
                <a:lnTo>
                  <a:pt x="593" y="423"/>
                </a:lnTo>
                <a:lnTo>
                  <a:pt x="593" y="636"/>
                </a:lnTo>
                <a:lnTo>
                  <a:pt x="848" y="317"/>
                </a:lnTo>
                <a:lnTo>
                  <a:pt x="593" y="0"/>
                </a:lnTo>
                <a:lnTo>
                  <a:pt x="593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28880" y="289548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0" y="211"/>
                </a:moveTo>
                <a:lnTo>
                  <a:pt x="0" y="423"/>
                </a:lnTo>
                <a:lnTo>
                  <a:pt x="593" y="423"/>
                </a:lnTo>
                <a:lnTo>
                  <a:pt x="593" y="636"/>
                </a:lnTo>
                <a:lnTo>
                  <a:pt x="848" y="317"/>
                </a:lnTo>
                <a:lnTo>
                  <a:pt x="593" y="0"/>
                </a:lnTo>
                <a:lnTo>
                  <a:pt x="593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91919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441440" y="2262240"/>
            <a:ext cx="11113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v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441440" y="3786120"/>
            <a:ext cx="118728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Graph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harac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62800" y="2590920"/>
            <a:ext cx="152640" cy="228960"/>
          </a:xfrm>
          <a:custGeom>
            <a:avLst/>
            <a:gdLst/>
            <a:ahLst/>
            <a:rect l="0" t="0" r="r" b="b"/>
            <a:pathLst>
              <a:path fill="none" w="424" h="636">
                <a:moveTo>
                  <a:pt x="424" y="0"/>
                </a:moveTo>
                <a:lnTo>
                  <a:pt x="424" y="0"/>
                </a:lnTo>
                <a:cubicBezTo>
                  <a:pt x="350" y="0"/>
                  <a:pt x="276" y="29"/>
                  <a:pt x="212" y="85"/>
                </a:cubicBezTo>
                <a:cubicBezTo>
                  <a:pt x="148" y="141"/>
                  <a:pt x="94" y="221"/>
                  <a:pt x="57" y="318"/>
                </a:cubicBezTo>
                <a:cubicBezTo>
                  <a:pt x="20" y="415"/>
                  <a:pt x="0" y="524"/>
                  <a:pt x="0" y="636"/>
                </a:cubicBez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090880" y="271440"/>
            <a:ext cx="7162920" cy="13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Types of conversion or why C3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838160" y="2819520"/>
            <a:ext cx="7162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ree types of conver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ne to one” - C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egible”  - C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versible” - C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243160" y="347760"/>
            <a:ext cx="7162920" cy="13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Non-exact conversio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066760" y="1838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24120" y="2463840"/>
            <a:ext cx="3219480" cy="3333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508120" y="3024360"/>
            <a:ext cx="17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aracter se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79720" y="462456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arac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822320" y="439596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arac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t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8120" y="3633840"/>
            <a:ext cx="229248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ff00"/>
                </a:solidFill>
                <a:latin typeface="Book Antiqua"/>
                <a:ea typeface="Book Antiqua"/>
              </a:rPr>
              <a:t>subsets of non-ex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ff00"/>
                </a:solidFill>
                <a:latin typeface="Book Antiqua"/>
                <a:ea typeface="Book Antiqua"/>
              </a:rPr>
              <a:t>conver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7120" y="2422440"/>
            <a:ext cx="292752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always look for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st possi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pla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aracter or 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13440" y="4175280"/>
            <a:ext cx="274968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arch i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cultural dri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egible con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090880" y="271440"/>
            <a:ext cx="7162920" cy="13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One to One convers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03560" y="1995480"/>
            <a:ext cx="711828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ne source character to one target charac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27040" y="2468520"/>
            <a:ext cx="1552680" cy="24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preser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th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of lines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data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508120" y="2651040"/>
            <a:ext cx="540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tin capital letter D with stroke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SL Dutch"/>
                <a:ea typeface="SL Dutch"/>
              </a:rPr>
              <a:t> \     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508120" y="3184560"/>
            <a:ext cx="5357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mmercial at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 @             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8120" y="3718080"/>
            <a:ext cx="5438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pyright sign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©             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08120" y="4251240"/>
            <a:ext cx="5384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icrosign  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µ               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8120" y="4861080"/>
            <a:ext cx="54957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tin capital letter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E with acute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É                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8120" y="5318280"/>
            <a:ext cx="5511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mpersand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&amp;              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43680" y="281952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67360" y="335268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19400" y="2143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43680" y="281952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67360" y="388620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67360" y="335268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67360" y="548640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67360" y="502920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67360" y="449568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Legible  convers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79320" y="1309680"/>
            <a:ext cx="855036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t always one source character one target charac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74760" y="2316240"/>
            <a:ext cx="197640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gives the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as much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inform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about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character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means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leg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represen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8120" y="2651040"/>
            <a:ext cx="5386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tin capital letter D with stroke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SL Dutch"/>
                <a:ea typeface="SL Dutch"/>
              </a:rPr>
              <a:t> \     D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8120" y="3184560"/>
            <a:ext cx="53071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mmercial at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 @            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508120" y="3718080"/>
            <a:ext cx="53625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pyright sign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©            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8120" y="4251240"/>
            <a:ext cx="5384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icrosign  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µ               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8120" y="4861080"/>
            <a:ext cx="53560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tin capital letter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E   (ash)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Æ           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508120" y="5318280"/>
            <a:ext cx="5511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mpersand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&amp;              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81952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67360" y="335268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85880" y="1533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67360" y="441972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67360" y="388620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67360" y="495288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67360" y="548640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67360" y="335268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43680" y="281952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090880" y="271440"/>
            <a:ext cx="716292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Reversible conversion  “one to many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517760" y="1690560"/>
            <a:ext cx="751356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ne source character to more target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27040" y="2468520"/>
            <a:ext cx="1820880" cy="24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en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re-co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to the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character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508120" y="2651040"/>
            <a:ext cx="5629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tin capital letter D with stroke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SL Dutch"/>
                <a:ea typeface="SL Dutch"/>
              </a:rPr>
              <a:t> \     &amp;D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508120" y="3184560"/>
            <a:ext cx="5484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mmercial at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 @           &amp;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8120" y="3718080"/>
            <a:ext cx="5540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pyright sign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©            &amp;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508120" y="4251240"/>
            <a:ext cx="57578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icrosign  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µ            &amp;m 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508120" y="4861080"/>
            <a:ext cx="57848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tin capital letter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Æ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(ash)        Æ             &amp;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8120" y="5318280"/>
            <a:ext cx="5689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mpersand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&amp;             &amp;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43680" y="281952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67360" y="335268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38160" y="1838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67360" y="441972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67360" y="388620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67360" y="495288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67360" y="548640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67360" y="335268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43680" y="281952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090880" y="271440"/>
            <a:ext cx="716292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Reversible conversion  “one to many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17760" y="1690560"/>
            <a:ext cx="751356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ne source character to more target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27040" y="2468520"/>
            <a:ext cx="1820880" cy="24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en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re-co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to the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Book Antiqua"/>
                <a:ea typeface="Book Antiqua"/>
              </a:rPr>
              <a:t>character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8120" y="2651040"/>
            <a:ext cx="5629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tin capital letter D with stroke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SL Dutch"/>
                <a:ea typeface="SL Dutch"/>
              </a:rPr>
              <a:t> \     &amp;D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508120" y="3184560"/>
            <a:ext cx="5484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mmercial at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 @           &amp;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508120" y="3718080"/>
            <a:ext cx="5540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pyright sign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©            &amp;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8120" y="4251240"/>
            <a:ext cx="57578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icrosign  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µ            &amp;m 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508120" y="4861080"/>
            <a:ext cx="57848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tin capital letter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Æ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(ash)        Æ             &amp;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508120" y="5318280"/>
            <a:ext cx="5689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mpersand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&amp;             &amp;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43680" y="281952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67360" y="335268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38160" y="1838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67360" y="441972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67360" y="388620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67360" y="495288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67360" y="548640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67360" y="335268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43680" y="281952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Information us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28680" y="1000080"/>
            <a:ext cx="7162920" cy="43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itiz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pendent professio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cal and international S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s and local auth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overnment and public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me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ur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ities and local auth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ufacturing, industry etc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Basic paramete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066760" y="1838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types of parameters: conversion system, source, target, conversion type, line-break string(s) in the source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 types: conversion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 types: conversion selector, non-exact conversion, data erro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090880" y="271440"/>
            <a:ext cx="7162920" cy="13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Transliteration and Transcrip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90800" y="2676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889360" y="1889280"/>
            <a:ext cx="375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  <a:ea typeface="Book Antiqua"/>
              </a:rPr>
              <a:t>Two names in TL and  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861160" y="2575080"/>
            <a:ext cx="2583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SvobodaFWF"/>
                <a:ea typeface="SvobodaFWF"/>
              </a:rPr>
              <a:t>Ï¸òð ×àéêîâñê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861160" y="3184560"/>
            <a:ext cx="2611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SvobodaFWF"/>
                <a:ea typeface="SvobodaFWF"/>
              </a:rPr>
              <a:t>Ï¼îòð ×à¼êîâñk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441440" y="2498760"/>
            <a:ext cx="342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SvobodaFWF"/>
                <a:ea typeface="SvobodaFWF"/>
              </a:rPr>
              <a:t>ªäóàðä Øåâàðäíàäç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57280" y="3184560"/>
            <a:ext cx="3378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SvobodaFWF"/>
                <a:ea typeface="SvobodaFWF"/>
              </a:rPr>
              <a:t>Åäóàðä ØåâàðäíàŸ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441440" y="3870360"/>
            <a:ext cx="3594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ouard Chévardnadz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861160" y="3794040"/>
            <a:ext cx="2801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iotr Tchaïkovs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441440" y="4556160"/>
            <a:ext cx="364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uard Schewardnad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784840" y="4479840"/>
            <a:ext cx="2954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jotr Tschajkows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441440" y="5241960"/>
            <a:ext cx="421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adbhard Seibheardnads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784840" y="5165640"/>
            <a:ext cx="354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otar Seaidhcobhsca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2090880" y="271440"/>
            <a:ext cx="716292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User control of the C3 tool-run time local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438360" y="3048120"/>
            <a:ext cx="55627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90600" y="1676520"/>
            <a:ext cx="8991720" cy="44956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108320" y="2697120"/>
            <a:ext cx="2836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ARGET CULTUR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422520" y="3481560"/>
            <a:ext cx="280656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D1: non-exact con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0:Don’t b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1:Pan-Europ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2:Swed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3:Sloven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4:Dan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5:O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165720" y="3633840"/>
            <a:ext cx="3073320" cy="18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D2:Cyrillic source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0:Don’t b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1:Russ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2:Serb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3:Macedon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2090880" y="271440"/>
            <a:ext cx="7162920" cy="13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Transliteration</a:t>
            </a:r>
            <a:br>
              <a:rPr sz="5400"/>
            </a:b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from Cyrillic in C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066760" y="1838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212840" y="1889280"/>
            <a:ext cx="26622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rbo/Macedon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212840" y="3794040"/>
            <a:ext cx="33577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ssian translit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212840" y="4556160"/>
            <a:ext cx="3193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SvobodaFWF"/>
                <a:ea typeface="SvobodaFWF"/>
              </a:rPr>
              <a:t>ß ãîâîðþ ïî ðóññê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12840" y="2422440"/>
            <a:ext cx="698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SvobodaFWF"/>
                <a:ea typeface="SvobodaFWF"/>
              </a:rPr>
              <a:t>£à ãîâîðèì ðóñêè ¼åçèê / £àç çáîðóâàì ðóñê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65120" y="2955960"/>
            <a:ext cx="69213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ff"/>
                </a:solidFill>
                <a:latin typeface="Book Antiqua"/>
                <a:ea typeface="Book Antiqua"/>
              </a:rPr>
              <a:t>Ja govorim ruski jezik/ Jaz zboruvam ruski jaz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41440" y="508968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Book Antiqua"/>
              </a:rPr>
              <a:t>Ja govoril po  rus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090880" y="271440"/>
            <a:ext cx="716292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C3 Innovative elements - approximation ta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57280" y="1838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ies  for each character in any of the character sets supported (cca 40), how to be represented approximately by fall-back in the target character set, if the character appears to be in the non-exact conversion sub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veral alternative representations are specified to take advantage of the different character repertoires of the different 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The C3 repertoi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228680" y="1523880"/>
            <a:ext cx="77724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nversion table represented with ASC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haracters represented  by their UCS na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ther characters of UCS can be indicated with their hexadecimal form in UCS-2 (ISO 10 646-1:199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The C3 repertoi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52360" y="1457280"/>
            <a:ext cx="7924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ommon Sub-repertoire consists of 83 invariant graphic characters including SP of ISO 646:19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United repertoire of the current version includes 39 coded character sets 7 and 8-bit based, national versions of ISO 646, proprietary character sets and standard character sets which are used in Eur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includes also 65 control character sets of the C0, C1 and DEL of ISO 8-bit character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mited number of additional characters from the European subset of ISO 10 646 -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draft ENV of CEN TC3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2090880" y="271440"/>
            <a:ext cx="7162920" cy="13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C3 and control characte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228680" y="2295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0 and C1 sets considered as building blocks of control functions in different contex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3 API is designed to support fully “state full” coded character sets, T.61 (ISO 6937) and ISO 20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3 API is designed to support context-sensitive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090880" y="271440"/>
            <a:ext cx="7162920" cy="13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C3 and network services -E-mai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762200" y="2676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wo applications in e-m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Z-m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XMH*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937120" y="5538960"/>
            <a:ext cx="32637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  <a:ea typeface="Book Antiqua"/>
              </a:rPr>
              <a:t>* Exmh is  Xerox Copyrigh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276800" y="3352680"/>
            <a:ext cx="24703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exmh and C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066760" y="1838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923760" y="76212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What are the promises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 of G-7 and EU strategi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09560" y="2143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pen a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niversal provision of and access to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Arial"/>
              </a:rPr>
              <a:t>diversity of content: cultural and linguis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Exmh and C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066760" y="1838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023840" y="1766880"/>
            <a:ext cx="76993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066760" y="1838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762200" y="490680"/>
            <a:ext cx="623088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WW  Mosaic -L10N Takada Toshih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066760" y="1838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71480" y="83808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C3 and MAI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533600" y="1228680"/>
            <a:ext cx="7162920" cy="43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ITS is a CEC sponsored project -IV Framework Programme -Telematics and Language Engine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ITS - Multi-lingual Application Interface for Telematic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ITS will provide full application of TL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0908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CONCLUSIO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533600" y="1762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ny conversion systems ex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3 is innovative because provides Level 0 and Level 1 of TL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3 and network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on - full API with L2 and L3 of TL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90880" y="271440"/>
            <a:ext cx="7162920" cy="13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but still no clear answers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05000" y="1838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ow to prevent the erosion of cultural divers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ow to avoid the creation of  two-tier soci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ow to avoid a widening gap between developed and developing countr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90880" y="271440"/>
            <a:ext cx="7162920" cy="13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Why are answers still</a:t>
            </a:r>
            <a:br>
              <a:rPr sz="5400"/>
            </a:b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required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43080" y="3124080"/>
            <a:ext cx="6442200" cy="3205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066760" y="1828800"/>
            <a:ext cx="658512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 proper support to the linguistic needs and the cultural divers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rs are embedded in a mess of character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090880" y="271440"/>
            <a:ext cx="716292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How the mess came to b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62200" y="16095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ll computing started in isolated encl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mmunication requires a common denomin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ocal variant for local commun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ut there is something in common e.g... e-m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090880" y="271440"/>
            <a:ext cx="7162920" cy="13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What users have?</a:t>
            </a:r>
            <a:br>
              <a:rPr sz="5400"/>
            </a:b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90800" y="1685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-mail - MIME but:  lots of products, no wide support  of Uni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-mail - X.400 mapping defined but not deplo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veral systems for ch.sets conversion/fall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bject:=?ISO-8859-1?Q?=E6rerh=F8gskole?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090880" y="271440"/>
            <a:ext cx="7162920" cy="13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Solution tried in e-mai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838160" y="1990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placing everything with X.400 - did not work. The products did not solv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IME - NO change to ASCII, NO single character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results were: Infrastructure in place, no central control, no gateways an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LOTS OF FRUSTRATED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BUT IT WORK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rka Jerman-Blazic</dc:creator>
  <dc:description/>
  <dc:language>en-US</dc:language>
  <cp:lastModifiedBy>Borka Jerman-Blazic</cp:lastModifiedBy>
  <cp:revision>0</cp:revision>
  <dc:subject>prezentacija</dc:subject>
  <dc:title>Multilingual API for Internationalization of the Network Services</dc:title>
</cp:coreProperties>
</file>